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10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type.wav" ContentType="audio/x-wav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8D5-9869-4067-84EA-BCE7E7E4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9D2-789B-4C6F-B054-15EAA0A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933-D78C-48A8-A182-ADC44837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C84-BD2C-4B06-90A5-513F53C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154D-9D87-4B1D-97E1-ABBCC706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B27F-F01C-4B9A-A6B2-AFE45155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E4EC-3C21-49F7-BB4A-9C1B2DA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6E1A-F90A-4845-BC7C-82990EC7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36F-F3EC-4B51-9BEC-6387057F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4FC3-D640-4B66-B967-B73876A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700-90E6-4CE8-A49E-099DE70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3DF-4F11-4D27-8267-5C39758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51D-ECDE-41A4-BD12-A183601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021D-4322-47FB-8D0C-EE7917C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8E7-2C01-4DE6-BA1E-522AF250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0A0-49A1-4F07-B827-8B8A8282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F45-7701-400B-B35E-667EABA9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2867-7C61-43C0-8111-EF6BF757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EC20-417B-432E-8433-A8E256F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B650-9C92-4633-AA9B-B9AD754A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5FCF-A867-4DE4-90FA-5663873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AAA4-0F2D-4589-A3A7-97371F9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4E8-9D78-4095-BE28-F23A24F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3A5D-3CD5-4E38-9C33-6B0D258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9069-6FA9-4E5C-831A-A3CA486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5457-3792-4255-8E3D-B66E82F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397D-25FD-446A-9107-5594506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F1D7-D7E4-40D3-9B78-5E3C8954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4736-5C16-4758-B0F3-76CEF62D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F9EE-87EB-4D88-89AB-D1D90098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43B5-2F8C-425B-836A-0D147D3B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8E6B-EB36-4596-B284-750925A0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B1FB-A5C0-4F01-A3FC-FA6A4CCF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C7B-5572-49FA-A02D-9181C167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8DB2-7F32-4EE9-9F77-42E0466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CC72-2004-479B-80B0-D8651E59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98CE-561D-4F8C-A346-2744803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DBA7-4239-4E10-AE23-F4F6B33E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4E15-9DE1-4CAF-BBD9-50F7482F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D6D0-6EFE-45C7-9322-8A8C09A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ED11-FBD4-45FD-BB13-14D58E9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ED47-12CD-4011-A73B-5916062B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2C57-59D4-4F38-AF47-E8A07E39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202B-42F5-4BA2-844E-C01B1D08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CBF-A818-4343-A701-F697316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D195-D6FE-48ED-995B-558E259A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6EA6-7A78-4DCF-9FEE-BCA3F08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E6B3-64D5-4F58-899F-AAAE9DF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AE84-FE06-4E8A-987C-244557A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E9F6-1010-4D2A-A369-3099A68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1AF8-86C1-4065-B361-69C7F11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DD91-8A26-4321-B34A-0DD4B53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168A-3625-4B20-991C-98E923C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DAE5-3FF7-40AE-959D-14940ED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8B65-5AD1-42FD-944D-C5520FDA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17E-5ABB-46CC-A06B-A82D1ED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B5541-70EE-4A6D-A7C4-E867446E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544-1207-4873-B79B-5CDFAB0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1F9-89B0-419C-A58C-1B2FCC1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00B-A5EC-47D2-AE7F-FFEDB09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6BF4-6972-41AA-B69F-CFDCAACA8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E43-0AA8-419E-8DF6-5FC12CB9FF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400-EF67-45B3-A824-113F12F55A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BD8C-228B-447C-8E54-DAAA8D377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556-2BF1-4228-B088-80FF7956F357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drumroll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24000" y="1484280"/>
            <a:ext cx="8424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古诗两首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56272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丰年留客足鸡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7" name="Picture 4" descr="山村9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5429160" y="1785960"/>
            <a:ext cx="39290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菜肴尽够丰盛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山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1600200" y="4572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重水复疑无路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1285920" y="1428840"/>
            <a:ext cx="59292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山峦重重，水道弯弯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正怀疑无路可走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山村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2952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柳暗花明又一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143000" y="1857240"/>
            <a:ext cx="671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突然发现柳荫深深，鲜花明艳，眼前又是一个山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628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5236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完了这首诗，同学们能不能用诗中的一句话来赞美一下山西村的景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887280" y="27082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2360" y="3789360"/>
            <a:ext cx="8352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还能不能用一句诗来赞美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山西村的人更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96720" y="537372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莫笑农家腊酒浑，丰年留客足鸡豚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95280" y="358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1052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39640" y="249408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你能用自己的话说说对它的理解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12720" y="3718080"/>
            <a:ext cx="792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09440" y="3502080"/>
            <a:ext cx="8929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诗句的意思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山峦重重，水道弯弯，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突然发现柳荫深深，鲜花明艳，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6360" y="5086440"/>
            <a:ext cx="9001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920" y="4941720"/>
            <a:ext cx="90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这个村庄的风光更给了他深刻的启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经过坎坷曲折之后，往往会出现坦途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常用以形容陷入困境，似以无望，忽而绝处逢生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出现新的契机，增强克服困难的信心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6720" y="189000"/>
            <a:ext cx="25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主要内容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24000" y="2205000"/>
            <a:ext cx="30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908280" y="206064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表达情感 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95280" y="278136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96720" y="2638440"/>
            <a:ext cx="8066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赞扬了农民的淳朴、好客的品性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表现了诗人对农村生活的真挚感情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68360" y="4292640"/>
            <a:ext cx="324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904320" y="4076640"/>
            <a:ext cx="1704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人生哲理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24000" y="558972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0920" y="479736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面对困难，我们不要轻易退缩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因为曲折之后才是坦途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要记住：“阳光总在风雨后！”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4000" y="126828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907280" y="1052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作者到山西村做客，见到山西村的美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50920" y="260280"/>
            <a:ext cx="8675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俗语：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阳光总在风雨后”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不经历风雨，怎能见彩虹？”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叙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写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游山西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45880" y="9079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莫  笑   农  家   腊   酒   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69249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景色迷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492360" y="450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柳   暗   花   明   又  一   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699660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盛情待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3348000" y="35211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山   重  水   复   疑   无   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AutoShape 13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3778920" y="21844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丰   年   留   客   足  鸡    豚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8392680" y="202968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景美人更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全班朗诵古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把课后第二题做到作业本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填写本课练习册习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2013.9.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9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1"/>
          <a:stretch/>
        </p:blipFill>
        <p:spPr>
          <a:xfrm>
            <a:off x="406872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7732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学习古诗的方法？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2781360"/>
            <a:ext cx="94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2</a:t>
            </a: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释诗句，明诗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4292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0" y="1413000"/>
            <a:ext cx="8820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2" action="ppaction://hlinksldjump"/>
              </a:rPr>
              <a:t>知诗人，解题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5715000" y="3505320"/>
            <a:ext cx="25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Picture 5" descr="忆江南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9"/>
          <p:cNvSpPr txBox="1"/>
          <p:nvPr/>
        </p:nvSpPr>
        <p:spPr>
          <a:xfrm>
            <a:off x="2124000" y="21337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游山西村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360" y="117000"/>
            <a:ext cx="9072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知诗人，解题意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7640" y="1052280"/>
            <a:ext cx="7769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这首诗的作者是谁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38080" y="512604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6720" y="414972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72360" y="10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Times New Roman"/>
              </a:rPr>
              <a:t>陆游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81080" y="1989000"/>
            <a:ext cx="475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谁能说出陆游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什么朝代的什么人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612720" y="3573360"/>
            <a:ext cx="612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陆游，字务观，号放翁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汉族，越州山阴（今浙江绍兴）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南宋诗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创作诗歌很多，今存九千多首，内容极为丰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发政治抱负，反映人民疾苦，风格雄浑豪放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写日常生活，也多清新之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79280" y="3286080"/>
            <a:ext cx="453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1989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题目的意思是什么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11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9ac"/>
                </a:solidFill>
                <a:latin typeface="Arial"/>
                <a:ea typeface="华文新魏"/>
              </a:rPr>
              <a:t>游山西村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50920" y="371808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游山西村”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2771640" y="549360"/>
            <a:ext cx="838080" cy="1358640"/>
            <a:chOff x="2771640" y="549360"/>
            <a:chExt cx="838080" cy="1358640"/>
          </a:xfrm>
        </p:grpSpPr>
        <p:sp>
          <p:nvSpPr>
            <p:cNvPr id="225" name="AutoShape 6"/>
            <p:cNvSpPr/>
            <p:nvPr/>
          </p:nvSpPr>
          <p:spPr>
            <a:xfrm>
              <a:off x="3152520" y="54936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2771640" y="19080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2701800" y="44280"/>
            <a:ext cx="100656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游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071960" y="335772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8041b"/>
                </a:solidFill>
                <a:latin typeface="Arial"/>
              </a:rPr>
              <a:t>在山西村游玩</a:t>
            </a:r>
            <a:r>
              <a:rPr b="1" lang="zh-CN" sz="8000" spc="-1" strike="noStrike">
                <a:solidFill>
                  <a:srgbClr val="a8041b"/>
                </a:solidFill>
                <a:latin typeface="Arial"/>
              </a:rPr>
              <a:t>。</a:t>
            </a:r>
            <a:r>
              <a:rPr b="0" lang="zh-CN" sz="8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c294400392136454afb51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一、原文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游山西村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              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陆游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莫笑农家腊酒浑，丰年留客足鸡豚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山重水复疑无路，柳暗花明又一村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箫鼓追随春社近，衣冠简朴古风存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从今若许闲乘月，拄杖无时夜叩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6" name="Picture 6" descr="thumbnail_400_400"/>
          <p:cNvPicPr/>
          <p:nvPr/>
        </p:nvPicPr>
        <p:blipFill>
          <a:blip r:embed="rId1"/>
          <a:stretch/>
        </p:blipFill>
        <p:spPr>
          <a:xfrm>
            <a:off x="36360" y="44280"/>
            <a:ext cx="5256360" cy="6742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5466240" y="148608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重水复疑无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366880" y="295956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柳暗花明又一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453440" y="2060640"/>
            <a:ext cx="79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8461440" y="2060640"/>
            <a:ext cx="682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732720" y="1413000"/>
            <a:ext cx="649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年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鸡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740720" y="1917720"/>
            <a:ext cx="72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380360" y="1557360"/>
            <a:ext cx="79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农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腊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酒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8388360" y="1844640"/>
            <a:ext cx="576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游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5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2"/>
          <a:stretch/>
        </p:blipFill>
        <p:spPr>
          <a:xfrm>
            <a:off x="6732720" y="90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732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5440" y="2852640"/>
            <a:ext cx="3959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莫笑农家腊酒浑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丰年留客足鸡豚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476360" y="14860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腊月酿的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2268360" y="2276640"/>
            <a:ext cx="790920" cy="1223640"/>
            <a:chOff x="2268360" y="2276640"/>
            <a:chExt cx="790920" cy="1223640"/>
          </a:xfrm>
        </p:grpSpPr>
        <p:sp>
          <p:nvSpPr>
            <p:cNvPr id="249" name="AutoShape 5"/>
            <p:cNvSpPr/>
            <p:nvPr/>
          </p:nvSpPr>
          <p:spPr>
            <a:xfrm>
              <a:off x="2574000" y="2276640"/>
              <a:ext cx="197640" cy="725040"/>
            </a:xfrm>
            <a:prstGeom prst="upArrow">
              <a:avLst>
                <a:gd name="adj1" fmla="val 50000"/>
                <a:gd name="adj2" fmla="val 91712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>
              <a:off x="2268360" y="3500280"/>
              <a:ext cx="7909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1" name="Rectangle 7"/>
          <p:cNvSpPr/>
          <p:nvPr/>
        </p:nvSpPr>
        <p:spPr>
          <a:xfrm>
            <a:off x="3851280" y="2565360"/>
            <a:ext cx="511344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不要笑话农家的腊酒浑浊不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854520" y="3860640"/>
            <a:ext cx="5111640" cy="100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菜肴尽够丰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3" name="Group 9"/>
          <p:cNvGrpSpPr/>
          <p:nvPr/>
        </p:nvGrpSpPr>
        <p:grpSpPr>
          <a:xfrm>
            <a:off x="468360" y="2708280"/>
            <a:ext cx="360360" cy="720720"/>
            <a:chOff x="468360" y="2708280"/>
            <a:chExt cx="360360" cy="720720"/>
          </a:xfrm>
        </p:grpSpPr>
        <p:sp>
          <p:nvSpPr>
            <p:cNvPr id="254" name="AutoShape 10"/>
            <p:cNvSpPr/>
            <p:nvPr/>
          </p:nvSpPr>
          <p:spPr>
            <a:xfrm>
              <a:off x="632160" y="2708280"/>
              <a:ext cx="98280" cy="282960"/>
            </a:xfrm>
            <a:prstGeom prst="upArrow">
              <a:avLst>
                <a:gd name="adj1" fmla="val 50000"/>
                <a:gd name="adj2" fmla="val 7197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468360" y="342900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Text Box 12"/>
          <p:cNvSpPr/>
          <p:nvPr/>
        </p:nvSpPr>
        <p:spPr>
          <a:xfrm>
            <a:off x="-384120" y="2276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不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52720" y="4941720"/>
            <a:ext cx="5116680" cy="18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山峦重重，水道弯弯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突然发现柳荫深深，鲜花明艳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34920" y="0"/>
            <a:ext cx="910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2</a:t>
            </a: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释诗句，明诗意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9" name="Group 15"/>
          <p:cNvGrpSpPr/>
          <p:nvPr/>
        </p:nvGrpSpPr>
        <p:grpSpPr>
          <a:xfrm>
            <a:off x="3203640" y="3860640"/>
            <a:ext cx="360360" cy="505080"/>
            <a:chOff x="3203640" y="3860640"/>
            <a:chExt cx="360360" cy="505080"/>
          </a:xfrm>
        </p:grpSpPr>
        <p:sp>
          <p:nvSpPr>
            <p:cNvPr id="260" name="AutoShape 16"/>
            <p:cNvSpPr/>
            <p:nvPr/>
          </p:nvSpPr>
          <p:spPr>
            <a:xfrm>
              <a:off x="3367440" y="3860640"/>
              <a:ext cx="98280" cy="198360"/>
            </a:xfrm>
            <a:prstGeom prst="upArrow">
              <a:avLst>
                <a:gd name="adj1" fmla="val 50000"/>
                <a:gd name="adj2" fmla="val 5045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3203640" y="436572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62" name="Rectangle 18"/>
          <p:cNvSpPr/>
          <p:nvPr/>
        </p:nvSpPr>
        <p:spPr>
          <a:xfrm>
            <a:off x="3132000" y="35020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猪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29"/>
          <p:cNvSpPr/>
          <p:nvPr/>
        </p:nvSpPr>
        <p:spPr>
          <a:xfrm>
            <a:off x="45720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莫 笑 农 家 腊 酒 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4" name="Picture 1035" descr="陆游6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4"/>
          <p:cNvSpPr/>
          <p:nvPr/>
        </p:nvSpPr>
        <p:spPr>
          <a:xfrm>
            <a:off x="4000680" y="2000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你）不要笑话农家的腊酒浑浊不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15:38Z</dcterms:created>
  <dc:creator>wwwfox</dc:creator>
  <dc:description/>
  <cp:keywords/>
  <dc:language>en-US</dc:language>
  <cp:lastModifiedBy>user</cp:lastModifiedBy>
  <dcterms:modified xsi:type="dcterms:W3CDTF">2015-09-18T03:56:02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